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move the slid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47F3-21E6-4812-AF0D-A7D11379E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1CFB-574E-4EC9-979C-CCD9341381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SP Conference 18/19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0499-288D-4B36-8150-75B459238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7095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9720" y="4370040"/>
            <a:ext cx="50371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BB21-2E52-4B70-9676-8A7F07A0E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B1B-CCC1-411E-B94B-997135DA4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4B5F-040F-405B-BEA8-6032E53F2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AE2-B580-4A7A-9DFC-213140A29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E39F-5BCB-4CE5-B2A2-62F039118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482D-1B9B-4014-9727-F05D7B010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75B-905B-41D6-934A-0B0BD2D64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52F1-F8F1-4D1A-B373-403EA1930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2A43-8771-49A6-83BB-D21F0021B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23C4-1099-4C66-BC34-74C1D9829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52D5-ED92-4635-9481-063B9F3FA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9BB-ECB6-4265-81F6-5B4F3C1CF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41DE-9048-4609-8AF3-5C54450F4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2ECF-2E1C-44CB-ADA1-BAEB6A931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301A-777D-4545-A7B0-B15A5DEA0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C22-2758-46F1-B56A-562B637F5BD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8C5-B270-491B-B11C-638C764404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34CC-83E1-48B4-911C-8FC147998B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408-AB40-4ADA-9BA4-C9A452343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nge this to reflect your PD l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631-5FE7-4A0E-808E-F87D5EB910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C584-FAAC-488E-87DE-1FB687181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DED-33FB-4EEA-9CB6-8F37F66F9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CE7-3F13-4B84-803A-C0BC3A519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7E3A-694E-47C6-A7A0-E7CFCF52B89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38BF5-EDBB-4D07-A3CF-90FF122EF9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0DE19-D0D3-4E12-800C-BD42F80317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EF72A-ABFE-4DF7-B4FB-9060C5B38D1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97D5A-9E49-4B65-BFAD-5E84469296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5600B-7785-4287-A852-1135F40B56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B6024-6EC3-4251-8A04-B923970C22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4BA1-B66F-42E1-9FCE-8D55F43A39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06EE6-4C2C-4746-BB34-921BB4973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365-3F6C-43BA-9A99-19884567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E92-4C38-418C-A0D7-6028B58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E50-71BD-48D2-B371-2E5C619F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130-FA06-4F86-A107-70809208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C01-31F4-4688-B19F-C969E40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F2C-4E72-477A-BAC5-518CEA5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3226-9FD4-4BE5-82D6-A9CEE97D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4FF-F9E6-471E-9D2E-F024169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DA2-F2DE-475B-8D22-CCE495DB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CCC-F41E-490C-96C9-4585DB83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0DC-968D-4C42-973D-D20056AA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DC2-9E29-482B-920A-91F0D035D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7F17D-8045-4C26-9322-3783DE3A9B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9FF27-FEC1-4A19-AD9B-0D78493A172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BB244-1B6F-4F77-AE1A-7E59E3EDF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1DB-02B8-4F90-B1F3-114A4F6C1FC8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2011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77724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8242-DFA5-46B7-94B4-984CF0E6B4A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ol%20Timer.lnk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Videos/RealPlayer%20Downloads/How%20Coaching%20Works%20-%20YouTube.flv" TargetMode="Externa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aching/Planning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oaching/Reflection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"/>
                <a:ea typeface="Arial"/>
              </a:rPr>
              <a:t>Cognitive Coaching</a:t>
            </a:r>
            <a:br>
              <a:rPr sz="4200"/>
            </a:br>
            <a:br>
              <a:rPr sz="42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rofessional Conversations Focused on Educator Growth and Improved Student Lear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Pitt County Schools</a:t>
            </a: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December 9, 2012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 Bold"/>
              </a:rPr>
              <a:t>To effectively engage people, it is helpful to identify two main subsystems in the brain.</a:t>
            </a:r>
            <a:br>
              <a:rPr sz="40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2120" y="914400"/>
            <a:ext cx="807408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068-1074-44A9-98FF-1E76054478F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  <p:sp>
        <p:nvSpPr>
          <p:cNvPr id="385" name="Line 7"/>
          <p:cNvSpPr/>
          <p:nvPr/>
        </p:nvSpPr>
        <p:spPr>
          <a:xfrm flipV="1">
            <a:off x="2446200" y="3512880"/>
            <a:ext cx="1463760" cy="563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851040" y="3789360"/>
            <a:ext cx="17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- approximates the newer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65200" y="1773360"/>
            <a:ext cx="234468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bels emotio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t of opt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 flipH="1" flipV="1">
            <a:off x="4704840" y="3944520"/>
            <a:ext cx="1994040" cy="276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81960" y="3995640"/>
            <a:ext cx="2277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 approximates the “old”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6299280" y="1916280"/>
            <a:ext cx="2262240" cy="20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t of pess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043680" y="1523880"/>
            <a:ext cx="310032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e 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52280" y="1676520"/>
            <a:ext cx="33894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2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D27D-581C-49CD-9C35-AA0309F1B34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2819520" y="1295280"/>
            <a:ext cx="964800" cy="423720"/>
            <a:chOff x="2819520" y="1295280"/>
            <a:chExt cx="964800" cy="423720"/>
          </a:xfrm>
        </p:grpSpPr>
        <p:sp>
          <p:nvSpPr>
            <p:cNvPr id="396" name="Rectangle 3"/>
            <p:cNvSpPr/>
            <p:nvPr/>
          </p:nvSpPr>
          <p:spPr>
            <a:xfrm>
              <a:off x="3001320" y="1374480"/>
              <a:ext cx="55440" cy="3445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>
              <a:off x="2819520" y="1355400"/>
              <a:ext cx="55800" cy="3636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3728520" y="1295280"/>
              <a:ext cx="55800" cy="4237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3183120" y="1311120"/>
              <a:ext cx="55440" cy="40788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>
              <a:off x="3364920" y="1385640"/>
              <a:ext cx="55800" cy="33336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>
              <a:off x="3546720" y="1341000"/>
              <a:ext cx="55800" cy="3780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8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961080" cy="3132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29"/>
          <p:cNvSpPr/>
          <p:nvPr/>
        </p:nvSpPr>
        <p:spPr>
          <a:xfrm>
            <a:off x="3962520" y="53352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 flipV="1">
            <a:off x="4772160" y="456264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2514600" y="4648320"/>
            <a:ext cx="22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imizing the Red Zone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: reduces the activity and impact of the re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2"/>
          <p:cNvSpPr/>
          <p:nvPr/>
        </p:nvSpPr>
        <p:spPr>
          <a:xfrm>
            <a:off x="4572000" y="990720"/>
            <a:ext cx="22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ximizing the Blue Zone</a:t>
            </a:r>
            <a:r>
              <a:rPr b="0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: cognition leads broad-base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0" y="3062160"/>
            <a:ext cx="2511360" cy="1191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this combination that occurs when a person is engaged by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5717880" y="6458040"/>
            <a:ext cx="28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ww.gr8educat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5"/>
          <p:cNvGrpSpPr/>
          <p:nvPr/>
        </p:nvGrpSpPr>
        <p:grpSpPr>
          <a:xfrm>
            <a:off x="2590920" y="1066680"/>
            <a:ext cx="1447560" cy="761760"/>
            <a:chOff x="2590920" y="1066680"/>
            <a:chExt cx="1447560" cy="761760"/>
          </a:xfrm>
        </p:grpSpPr>
        <p:sp>
          <p:nvSpPr>
            <p:cNvPr id="410" name="Line 36"/>
            <p:cNvSpPr/>
            <p:nvPr/>
          </p:nvSpPr>
          <p:spPr>
            <a:xfrm>
              <a:off x="2620440" y="1828440"/>
              <a:ext cx="141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7"/>
            <p:cNvGrpSpPr/>
            <p:nvPr/>
          </p:nvGrpSpPr>
          <p:grpSpPr>
            <a:xfrm>
              <a:off x="2590920" y="1066680"/>
              <a:ext cx="29520" cy="761760"/>
              <a:chOff x="2590920" y="1066680"/>
              <a:chExt cx="29520" cy="761760"/>
            </a:xfrm>
          </p:grpSpPr>
          <p:sp>
            <p:nvSpPr>
              <p:cNvPr id="412" name="Line 38"/>
              <p:cNvSpPr/>
              <p:nvPr/>
            </p:nvSpPr>
            <p:spPr>
              <a:xfrm flipV="1">
                <a:off x="2620440" y="1066680"/>
                <a:ext cx="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 flipH="1">
                <a:off x="2590920" y="173988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 flipH="1">
                <a:off x="2590920" y="11905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2590920" y="13003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 flipH="1">
                <a:off x="2590920" y="14101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 flipH="1">
                <a:off x="2590920" y="15199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>
                <a:off x="2590920" y="16297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45"/>
            <p:cNvSpPr/>
            <p:nvPr/>
          </p:nvSpPr>
          <p:spPr>
            <a:xfrm>
              <a:off x="2708640" y="1261800"/>
              <a:ext cx="59040" cy="566640"/>
            </a:xfrm>
            <a:prstGeom prst="rect">
              <a:avLst/>
            </a:prstGeom>
            <a:solidFill>
              <a:srgbClr val="b2b6f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6"/>
          <p:cNvSpPr/>
          <p:nvPr/>
        </p:nvSpPr>
        <p:spPr>
          <a:xfrm>
            <a:off x="2133720" y="1981080"/>
            <a:ext cx="10317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7"/>
          <p:cNvSpPr/>
          <p:nvPr/>
        </p:nvSpPr>
        <p:spPr>
          <a:xfrm>
            <a:off x="2209680" y="2438280"/>
            <a:ext cx="59868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947280" y="25909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tates of Mind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6956280" cy="42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Efficac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that one has the capacity to make a difference and being willing and able to do so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Flexibil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one has and can develop options to consider and be willing to acknowledge and demonstrate respect for empathy for diverse perspectives</a:t>
            </a: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onsciousn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onitoring one’s own values, intentions, thoughts and behaviors and their effect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raftsmanship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eking precision, refinement and mastery. Striving for exactness of critical thought processe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Interdependenc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ibuting to a common good and using group resources to enhance personal effectivenes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Five States of Mind </a:t>
            </a:r>
            <a:br>
              <a:rPr sz="4200"/>
            </a:b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120" y="18284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ork with a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ose two States of Mind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nk of “real world” exampl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ith the grou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3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670572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5 Minute_x000b_Break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711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Before We Begin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B08E-898F-4507-B440-69BA82E0DF05}" type="slidenum">
              <a:rPr b="0" lang="en-MY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57e"/>
                </a:solidFill>
                <a:latin typeface="Arial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Add this </a:t>
            </a:r>
            <a:r>
              <a:rPr b="0" i="1" lang="en-US" sz="2800" spc="-1" strike="noStrike">
                <a:solidFill>
                  <a:srgbClr val="40cf00"/>
                </a:solidFill>
                <a:latin typeface="Arial"/>
              </a:rPr>
              <a:t>wikispace</a:t>
            </a: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 to your favorite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Download and save the presentation found under “Region 1 Events”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1739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Effective Coaching Requires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3520" y="1828800"/>
            <a:ext cx="2590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us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appor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MP900439502.JPG"/>
          <p:cNvPicPr/>
          <p:nvPr/>
        </p:nvPicPr>
        <p:blipFill>
          <a:blip r:embed="rId4"/>
          <a:stretch/>
        </p:blipFill>
        <p:spPr>
          <a:xfrm>
            <a:off x="3124080" y="1828800"/>
            <a:ext cx="537552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omponents of Trus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09120" y="16761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pres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aware of oneself, others and the environ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ope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isten without judgment and with empathy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ek to understand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iew learning as mutual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ers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Building Rappor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2660760" cy="38102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140360" y="2133720"/>
            <a:ext cx="4495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and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e Johari Window</a:t>
            </a:r>
            <a:br>
              <a:rPr sz="4200"/>
            </a:br>
            <a:r>
              <a:rPr b="1" i="1" lang="en-US" sz="2400" spc="-1" strike="noStrike">
                <a:solidFill>
                  <a:srgbClr val="9900cc"/>
                </a:solidFill>
                <a:latin typeface="Arial Bold"/>
              </a:rPr>
              <a:t>A Communication Tool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76520" y="2286000"/>
          <a:ext cx="6095880" cy="3627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buClr>
                          <a:srgbClr val="def6f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lind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dde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know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8"/>
          <p:cNvSpPr/>
          <p:nvPr/>
        </p:nvSpPr>
        <p:spPr>
          <a:xfrm>
            <a:off x="390240" y="2666880"/>
            <a:ext cx="13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312840" y="457200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2676240" y="1600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803560" y="16002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Johari 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vide into pair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rite what you know or see about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hat was written with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scuss what you have learned about yourself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5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723888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Effective Coaching Skills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990720" y="373392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When coaches and teachers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nteract equally as partners,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      good things happe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m K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even Partnership Principles 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66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qual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axi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ciproc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546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4267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Lunch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343400" y="744480"/>
            <a:ext cx="36576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 "How Coaching Works"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114800" y="5562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watch?v=UY75MQte4RU&amp;feature=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ng Mea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65% Non Verbal 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scle Ten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35% Verb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79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c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Can We Agree?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15238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ctively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Valu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Stay focused on established purpos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efrain from conducting ‘side ba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496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on Knowledge and Skills for Effec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663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Paralanguag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esponse Behavi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tructur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ediative Questio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Paralanguag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Nonverbal &amp; Verbal Cu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ate of Spee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nguage Choi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Response Behavior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94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ilence</a:t>
            </a: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knowledg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oviding Data &amp; Resour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Structur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coach clearly communicates expectations about purposes and the use of such resources as time, space, and materials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ectations should be based on a common understanding of the purposes for the coaching, the roles the coach should play, time allotments, and placement of the coach during observatio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Mediative Question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are intentionally designed to engage and transform thinking and perspective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must meet three criteria: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vitational in form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ngage complex cognitive processe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ntion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224720" y="1371600"/>
            <a:ext cx="65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It’s not the answers that enlighten us, but the ques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rIns="129240" anchor="ctr">
            <a:noAutofit/>
          </a:bodyPr>
          <a:p>
            <a:pPr marL="38160" indent="0" algn="ctr">
              <a:buNone/>
              <a:tabLst>
                <a:tab algn="l" pos="0"/>
                <a:tab algn="l" pos="3816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8780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816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Judgmental vs. </a:t>
            </a:r>
            <a:br>
              <a:rPr sz="4000"/>
            </a:b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Non-Judgmental Questio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7F25-4D16-4CBF-A674-BD6424A29DD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rIns="129240" anchor="t">
            <a:norm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y did you do it that way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at would you do differently next time if you could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69920" y="6676920"/>
            <a:ext cx="19980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Let’s Practice Question Development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A1B8-51F9-44DC-A925-E50DEBE91F9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57200" y="4038480"/>
            <a:ext cx="8458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statement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ly write down the first 3 questions that come to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anything that is tending towards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the thinking to change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now with your table buddies to put together a 'top 5' list of appropri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2"/>
          <p:cNvGrpSpPr/>
          <p:nvPr/>
        </p:nvGrpSpPr>
        <p:grpSpPr>
          <a:xfrm>
            <a:off x="1523880" y="1219320"/>
            <a:ext cx="3048120" cy="838080"/>
            <a:chOff x="1523880" y="1219320"/>
            <a:chExt cx="3048120" cy="838080"/>
          </a:xfrm>
        </p:grpSpPr>
        <p:sp>
          <p:nvSpPr>
            <p:cNvPr id="491" name="AutoShape 13"/>
            <p:cNvSpPr/>
            <p:nvPr/>
          </p:nvSpPr>
          <p:spPr>
            <a:xfrm>
              <a:off x="1523880" y="1219320"/>
              <a:ext cx="3048120" cy="83808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943"/>
                  </a:lnTo>
                  <a:lnTo>
                    <a:pt x="0" y="9918"/>
                  </a:lnTo>
                  <a:lnTo>
                    <a:pt x="0" y="11902"/>
                  </a:lnTo>
                  <a:lnTo>
                    <a:pt x="12600" y="11902"/>
                  </a:lnTo>
                  <a:lnTo>
                    <a:pt x="10831" y="21600"/>
                  </a:lnTo>
                  <a:lnTo>
                    <a:pt x="18000" y="11902"/>
                  </a:lnTo>
                  <a:lnTo>
                    <a:pt x="21600" y="11902"/>
                  </a:lnTo>
                  <a:lnTo>
                    <a:pt x="21600" y="9918"/>
                  </a:lnTo>
                  <a:lnTo>
                    <a:pt x="21600" y="6943"/>
                  </a:lnTo>
                  <a:lnTo>
                    <a:pt x="21600" y="0"/>
                  </a:lnTo>
                  <a:lnTo>
                    <a:pt x="18000" y="0"/>
                  </a:lnTo>
                  <a:lnTo>
                    <a:pt x="12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2310120" y="1220040"/>
              <a:ext cx="12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in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6"/>
          <p:cNvGrpSpPr/>
          <p:nvPr/>
        </p:nvGrpSpPr>
        <p:grpSpPr>
          <a:xfrm>
            <a:off x="5638680" y="1143000"/>
            <a:ext cx="2667240" cy="1066680"/>
            <a:chOff x="5638680" y="1143000"/>
            <a:chExt cx="2667240" cy="1066680"/>
          </a:xfrm>
        </p:grpSpPr>
        <p:sp>
          <p:nvSpPr>
            <p:cNvPr id="494" name="AutoShape 7"/>
            <p:cNvSpPr/>
            <p:nvPr/>
          </p:nvSpPr>
          <p:spPr>
            <a:xfrm>
              <a:off x="5638680" y="1143000"/>
              <a:ext cx="2667240" cy="106668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558"/>
                  </a:lnTo>
                  <a:lnTo>
                    <a:pt x="0" y="9369"/>
                  </a:lnTo>
                  <a:lnTo>
                    <a:pt x="0" y="11242"/>
                  </a:lnTo>
                  <a:lnTo>
                    <a:pt x="3600" y="11242"/>
                  </a:lnTo>
                  <a:lnTo>
                    <a:pt x="2127" y="21600"/>
                  </a:lnTo>
                  <a:lnTo>
                    <a:pt x="9000" y="11242"/>
                  </a:lnTo>
                  <a:lnTo>
                    <a:pt x="21600" y="11242"/>
                  </a:lnTo>
                  <a:lnTo>
                    <a:pt x="21600" y="9369"/>
                  </a:lnTo>
                  <a:lnTo>
                    <a:pt x="21600" y="6558"/>
                  </a:lnTo>
                  <a:lnTo>
                    <a:pt x="21600" y="0"/>
                  </a:lnTo>
                  <a:lnTo>
                    <a:pt x="9000" y="0"/>
                  </a:lnTo>
                  <a:lnTo>
                    <a:pt x="3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478200" y="1201680"/>
              <a:ext cx="80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3657600" y="2895480"/>
            <a:ext cx="2895480" cy="1067040"/>
            <a:chOff x="3657600" y="2895480"/>
            <a:chExt cx="2895480" cy="1067040"/>
          </a:xfrm>
        </p:grpSpPr>
        <p:sp>
          <p:nvSpPr>
            <p:cNvPr id="497" name="AutoShape 10"/>
            <p:cNvSpPr/>
            <p:nvPr/>
          </p:nvSpPr>
          <p:spPr>
            <a:xfrm>
              <a:off x="3657600" y="2895480"/>
              <a:ext cx="2895480" cy="10670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726"/>
                  </a:moveTo>
                  <a:lnTo>
                    <a:pt x="0" y="15038"/>
                  </a:lnTo>
                  <a:lnTo>
                    <a:pt x="0" y="17007"/>
                  </a:lnTo>
                  <a:lnTo>
                    <a:pt x="0" y="21600"/>
                  </a:lnTo>
                  <a:lnTo>
                    <a:pt x="12600" y="21600"/>
                  </a:lnTo>
                  <a:lnTo>
                    <a:pt x="18000" y="21600"/>
                  </a:lnTo>
                  <a:lnTo>
                    <a:pt x="21600" y="21600"/>
                  </a:lnTo>
                  <a:lnTo>
                    <a:pt x="21600" y="17007"/>
                  </a:lnTo>
                  <a:lnTo>
                    <a:pt x="21600" y="15038"/>
                  </a:lnTo>
                  <a:lnTo>
                    <a:pt x="21600" y="13726"/>
                  </a:lnTo>
                  <a:lnTo>
                    <a:pt x="18000" y="13726"/>
                  </a:lnTo>
                  <a:lnTo>
                    <a:pt x="14973" y="0"/>
                  </a:lnTo>
                  <a:lnTo>
                    <a:pt x="12600" y="13726"/>
                  </a:lnTo>
                  <a:close/>
                  <a:moveTo>
                    <a:pt x="0" y="13726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4443120" y="3583080"/>
              <a:ext cx="121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24"/>
          <p:cNvSpPr/>
          <p:nvPr/>
        </p:nvSpPr>
        <p:spPr>
          <a:xfrm>
            <a:off x="1125360" y="2133720"/>
            <a:ext cx="7035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’d really like to be less stressed at wor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t the tasks just keep piling up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Arial Bold"/>
              </a:rPr>
              <a:t>The Cognitive Coaching Cycle</a:t>
            </a:r>
            <a:br>
              <a:rPr sz="4200"/>
            </a:br>
            <a:br>
              <a:rPr sz="4200"/>
            </a:b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Diagram 10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8546760" cy="50608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ree Phases of the Proc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Plann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re-conference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lanning Ma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 Goal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termining the success indicat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ticipating approaches, strategies and decision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dentifying a personal learning focu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flecting on the coaching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Outcom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609480" y="137160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cf00"/>
                </a:solidFill>
                <a:latin typeface="Arial"/>
                <a:ea typeface="ＭＳ Ｐゴシック"/>
              </a:rPr>
              <a:t>Participants wi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express and determine how the Cognitive Coaching  process can be used in their current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dentify and apply the skills needed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n effective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understand the Cognitive Coaching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pply their new knowledge of Cognitive Coaching strategies to various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The Event</a:t>
            </a:r>
            <a:br>
              <a:rPr sz="44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Observation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indicators of suc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the effectiveness of approaches, strategies, and decision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llect data as deemed necessary during the pre-conferenc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Reflect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ost-conference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560" y="17524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Reflecting Map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mmary of impression and recalling supporting inform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ze causal factors that impacted the ev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struct new lear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mmit to the applic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flect on coaching process and design refine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38160">
            <a:solidFill>
              <a:srgbClr val="8dc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Cognitive Coaching Practice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cf00"/>
                </a:solidFill>
                <a:latin typeface="Arial"/>
                <a:ea typeface="Arial"/>
              </a:rPr>
              <a:t>Person A – Observer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ay attention the verbal and non-verbal behaviors of the coach.  Record your observations.)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Person B – Coa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erson C – Colleague or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ar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776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colleague says to you, “I’ve done everything I know to do and this teacher is still having difficulty with classroom management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609480"/>
            <a:ext cx="815328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parent comes to the principal and says, “I’ve had it with that teacher! I want my child taken out of her class </a:t>
            </a: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TODAY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!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609480"/>
            <a:ext cx="800100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old"/>
              </a:rPr>
              <a:t>Role Play Scenario #3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440" y="21333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A colleague says to you, “I’ve been feeling overwhelmed with integrating the new Instructional Standards into my lessons. The students know more that I do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3962"/>
                </a:solidFill>
                <a:latin typeface="Arial Bold"/>
              </a:rPr>
              <a:t>Questions</a:t>
            </a:r>
            <a:endParaRPr b="1" lang="en-US" sz="5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20" name="Content Placeholder 3" descr="Question Button.JPG"/>
          <p:cNvPicPr/>
          <p:nvPr/>
        </p:nvPicPr>
        <p:blipFill>
          <a:blip r:embed="rId1"/>
          <a:stretch/>
        </p:blipFill>
        <p:spPr>
          <a:xfrm>
            <a:off x="2057400" y="1905120"/>
            <a:ext cx="50576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Session Evalu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Visit: </a:t>
            </a:r>
            <a:r>
              <a:rPr b="1" lang="en-US" sz="3200" spc="-1" strike="noStrike">
                <a:solidFill>
                  <a:srgbClr val="173962"/>
                </a:solidFill>
                <a:latin typeface="Arial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40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Referenc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52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Costa, A. L., &amp; Garmston, R. J. (2002)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Cognitive Coaching: A foundation for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renaissance schools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(2</a:t>
            </a:r>
            <a:r>
              <a:rPr b="0" lang="en-US" sz="1700" spc="-1" strike="noStrike" baseline="30000">
                <a:solidFill>
                  <a:srgbClr val="173962"/>
                </a:solidFill>
                <a:latin typeface="Arial"/>
              </a:rPr>
              <a:t>nd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ed.). Norwood, MA: Christopher-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llison, J., &amp; Hayes, C. (2006). Effective School Leadership: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Developing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Principals through Cognitive Coaching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. Norwood, MA: Christopher-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Tschannen-Moran, B., Tschannen-Moran, M. (2011). The Coach and the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valuator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Educational Leadership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, 69,10-1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Knight, J. (2011). What Good Coaches Do. Educational Leadership,  69, 18-22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Aguilar, E., Goldwasser, D., &amp; Tank-Crestetto, K. (2011).  Supporting  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Principals Transforming Schools.  Educational Leadership, 69, 70-7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Web Resource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pd360.com/pd360.cfm#tab=home&amp;page=homeWall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youtube.com/watch?v=UY75MQte4RU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www.gr8education.co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businessballs.com/johariwindowmodeldiagram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achingnetwork.org.uk/resourcecentre/whatarecoachingandmentoring.ht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sites.google.com/site/group2presentation/home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svsd410.org/CCS/Cognitive%20Coaching.asp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gnitivecoaching.com/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ls.utk.edu/pdf/ls/Week2_Lesson12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youtube.com/watch?v=isiSOeMVJQk&amp;feature=BFa&amp;list=ULvfxFSvDvSqA&amp;lf=mfu_in_order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What Do You Know About Cognitive Coaching?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316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dividually and silently think about the question abov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dentify what you already know about Cognitive Coaching and write your ideas on sticky notes       (1 thought per note)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hare your ideas with the group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Contact Inform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Beth Edward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elizabeth.edwards@dpi.nc.gov (252) 916-6842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Dianne Meigg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dianne.meiggs@dpi.nc.gov  (252) 340-0113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The Mission of Cogni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914400" y="22860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produce self-directed persons with cognitive capacity for high performance both independently and as members of a comm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Costa and Garm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based on the idea that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etacogni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which provides personal insights into the learner’s own thinking process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 </a:t>
            </a:r>
            <a:r>
              <a:rPr b="1" i="1" lang="en-US" sz="2400" spc="-1" strike="noStrike">
                <a:solidFill>
                  <a:srgbClr val="173962"/>
                </a:solidFill>
                <a:latin typeface="Arial Bold"/>
              </a:rPr>
              <a:t>(cont’d)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962"/>
                </a:solidFill>
                <a:latin typeface="Arial"/>
              </a:rPr>
              <a:t>A way of thinking and communicating which: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Enhances understanding and higher level thinking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Helps others become their own problem-solver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Creates collaborative rather than dependent relationship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Develops genuine trust and rapport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Support others in feeling competent in challenging work environment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"/>
              </a:rPr>
              <a:t>Research Based Benefit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Coaching is linked wit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igher test scores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acher efficac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demonstrat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flective, complex thinking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about their practice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962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. Coached teachers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5. Coaching schools have higher self-ratings fo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6. Coaching schools hav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7. Coached teachers report feeling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re supported professional and personall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01840" cy="129564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3D99-FFD4-4076-B325-A39E4669518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4:14:23Z</dcterms:created>
  <dc:creator>Admin</dc:creator>
  <dc:description/>
  <dc:language>en-US</dc:language>
  <cp:lastModifiedBy>eedwards</cp:lastModifiedBy>
  <cp:lastPrinted>2011-01-21T14:46:16Z</cp:lastPrinted>
  <dcterms:modified xsi:type="dcterms:W3CDTF">2012-01-09T02:39:55Z</dcterms:modified>
  <cp:revision>381</cp:revision>
  <dc:subject/>
  <dc:title>Slide 1</dc:title>
</cp:coreProperties>
</file>